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25A3A-5D37-4C8E-91D6-43909730A27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each of the units, there are basic and advanced modules. The units are scaleable to multiple academic levels and can be used by faculty staff in whole or in part for teaching OS courses in academic institution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asic modules provide materials to incorporate into a complete undergraduate level OS course of one semester in length.  This covers the Windows operating system specific topics in the core and elective units at minimum (or basic) level of coverage of BOK as defined in CC2001.</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dvanced modules provide materials to incorporate into an advanced (undergraduate or graduate) level OS course of one semester in length.  The module covers the Windows operating system specific topics in the core and elective units of CC2001 (extended level of cover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lvl="1" marL="190440" indent="0" algn="just">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cturer may choose to use the basic course materials in order to augment an existing (undergraduate) OS course with information regarding the Windows operating system family. However, by combining the basic and advanced sections of the materials supplied herein, a potential lecturer may give a fully featured one semester (undergraduate) operating system course. Another option would be the usage of the advanced sections only in order to give a special (graduate) lecture or seminar on operating system internals and a comparison of architectural and design decisions and their impact for a number of different operating systems.</a:t>
            </a:r>
            <a:endParaRPr b="0" lang="en-US" sz="1200" spc="-1" strike="noStrike">
              <a:solidFill>
                <a:srgbClr val="000000"/>
              </a:solidFill>
              <a:latin typeface="Arial"/>
            </a:endParaRPr>
          </a:p>
          <a:p>
            <a:pPr lvl="1" marL="190440" indent="0" algn="just">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me Lab assignments are discussed throughout the Sections of the Curriculum module. Additional assignments may be found in the accompanying Lab manual.</a:t>
            </a:r>
            <a:endParaRPr b="0" lang="en-US" sz="1200" spc="-1" strike="noStrike">
              <a:solidFill>
                <a:srgbClr val="000000"/>
              </a:solidFill>
              <a:latin typeface="Arial"/>
            </a:endParaRPr>
          </a:p>
          <a:p>
            <a:pPr lvl="1" marL="190440" indent="0" algn="just">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05B6D-88CF-4AB9-B2B9-BF097AFDDC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822240" y="703440"/>
            <a:ext cx="5621400" cy="4216320"/>
          </a:xfrm>
          <a:prstGeom prst="rect">
            <a:avLst/>
          </a:prstGeom>
          <a:ln w="0">
            <a:noFill/>
          </a:ln>
        </p:spPr>
      </p:sp>
      <p:sp>
        <p:nvSpPr>
          <p:cNvPr id="139" name="PlaceHolder 2"/>
          <p:cNvSpPr>
            <a:spLocks noGrp="1"/>
          </p:cNvSpPr>
          <p:nvPr>
            <p:ph type="body"/>
          </p:nvPr>
        </p:nvSpPr>
        <p:spPr>
          <a:xfrm>
            <a:off x="696600" y="5342040"/>
            <a:ext cx="5886360" cy="3301920"/>
          </a:xfrm>
          <a:prstGeom prst="rect">
            <a:avLst/>
          </a:prstGeom>
          <a:no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perating Systems Internals Course” focuses on general-purpose operating systems technology and discusses techniques and approaches taken by the Microsoft Windows operating system family. Those techniques are compared to solutions found in Linux/UNIX system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07E95-3AD8-4B03-B53A-A366F02AB5E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822240" y="703440"/>
            <a:ext cx="5621400" cy="4216320"/>
          </a:xfrm>
          <a:prstGeom prst="rect">
            <a:avLst/>
          </a:prstGeom>
          <a:ln w="0">
            <a:noFill/>
          </a:ln>
        </p:spPr>
      </p:sp>
      <p:sp>
        <p:nvSpPr>
          <p:cNvPr id="145" name="PlaceHolder 2"/>
          <p:cNvSpPr>
            <a:spLocks noGrp="1"/>
          </p:cNvSpPr>
          <p:nvPr>
            <p:ph type="body"/>
          </p:nvPr>
        </p:nvSpPr>
        <p:spPr>
          <a:xfrm>
            <a:off x="696600" y="5342040"/>
            <a:ext cx="5886360" cy="330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14CA220-B1FF-4489-982A-27EA9468BF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017A6B-FEC9-4764-A683-756C460087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288C903-8364-41C2-AA09-6027BE3FE9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7EF5519-FDD3-488D-933C-0886D581D1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78C84D1-14F1-4FA6-B9CD-45F46A1570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F49917A-DEBC-4725-BDC9-EA239B5D1E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04A3F1-BC76-4D69-875D-5BAC6E2C26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DCF7D1-C5D9-4A57-8B38-E2F6F7E39B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2EFB8F-2FD7-4A30-9DBD-4307BEF426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13C874-7B00-4156-87D4-A9CA595B82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BA80AB-C375-4B2E-8CF0-AD0ABD2DCB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F4F9F7-C336-4FFB-871D-349890842F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9E244-03A4-41AB-B7D1-5C12C0D8EB75}"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hyperlink" Target="http://www.microsoft.com/resources/sharedsource/Licensing/WindowsAcademic.mspx" TargetMode="External"/><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1: </a:t>
            </a:r>
            <a:br>
              <a:rPr sz="3600"/>
            </a:br>
            <a:r>
              <a:rPr b="0" lang="en-US" sz="3600" spc="-1" strike="noStrike">
                <a:solidFill>
                  <a:srgbClr val="fe9900"/>
                </a:solidFill>
                <a:latin typeface="Arial"/>
              </a:rPr>
              <a:t>Overview of Operating Systems</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2320" y="4006800"/>
            <a:ext cx="7418160" cy="1262160"/>
          </a:xfrm>
          <a:prstGeom prst="rect">
            <a:avLst/>
          </a:prstGeom>
          <a:noFill/>
          <a:ln w="0">
            <a:noFill/>
          </a:ln>
        </p:spPr>
        <p:txBody>
          <a:bodyPr lIns="90000" rIns="90000" tIns="46800" bIns="46800" anchor="t">
            <a:noAutofit/>
          </a:bodyPr>
          <a:p>
            <a:pPr marL="56664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 Windows Operating System Internals </a:t>
            </a:r>
            <a:br>
              <a:rPr sz="2400"/>
            </a:br>
            <a:r>
              <a:rPr b="0" lang="en-US" sz="2400" spc="-1" strike="noStrike">
                <a:solidFill>
                  <a:srgbClr val="ffffff"/>
                </a:solidFill>
                <a:latin typeface="Arial"/>
              </a:rPr>
              <a:t>Course Overview </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t OS7: Protection and Security</a:t>
            </a:r>
            <a:endParaRPr b="0" lang="en-US" sz="4000" spc="-1" strike="noStrike">
              <a:solidFill>
                <a:srgbClr val="fe9900"/>
              </a:solidFill>
              <a:latin typeface="Arial"/>
            </a:endParaRPr>
          </a:p>
        </p:txBody>
      </p:sp>
      <p:sp>
        <p:nvSpPr>
          <p:cNvPr id="10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1. The Security Problem (Elective)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2. Windows Security Components and Concepts (Elective)</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3. Windows Security Descriptors (Elective/Advanced)</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4. Security labs, quizzes, and assignment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6EE9A50-D1FB-4138-A697-25945B314B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t OS6: Device Management - The Input/Output System</a:t>
            </a:r>
            <a:endParaRPr b="0" lang="en-US" sz="4000" spc="-1" strike="noStrike">
              <a:solidFill>
                <a:srgbClr val="fe9900"/>
              </a:solidFill>
              <a:latin typeface="Arial"/>
            </a:endParaRPr>
          </a:p>
        </p:txBody>
      </p:sp>
      <p:sp>
        <p:nvSpPr>
          <p:cNvPr id="10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1. Principles of I/O Systems (Elective)</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2. The Windows I/O System Components (Elective)</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3. Windows I/O Processing (Elective/Advanced)</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4. Device Management labs, quizzes, and assignment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46B8377-76B0-41FE-AA48-8432DEFA73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t OS8: File System</a:t>
            </a:r>
            <a:endParaRPr b="0" lang="en-US" sz="4000" spc="-1" strike="noStrike">
              <a:solidFill>
                <a:srgbClr val="fe9900"/>
              </a:solidFill>
              <a:latin typeface="Arial"/>
            </a:endParaRPr>
          </a:p>
        </p:txBody>
      </p:sp>
      <p:sp>
        <p:nvSpPr>
          <p:cNvPr id="10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1. Background: Unix File Systems (Electiv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2. The Windows File System (NTFS) (Electiv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3. Encrypting File System Security in Windows OS (Elective/Advanced)</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4. NTFS – Recovery Support (Elective/Advanced)</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5. Windows File and Directory Management (Electiv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6. File System labs, quizzes, and assignment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519DE3B-05B5-4E63-989C-AC89AF2450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t OS9: </a:t>
            </a:r>
            <a:br>
              <a:rPr sz="4000"/>
            </a:br>
            <a:r>
              <a:rPr b="0" lang="en-US" sz="4000" spc="-1" strike="noStrike">
                <a:solidFill>
                  <a:srgbClr val="fe9900"/>
                </a:solidFill>
                <a:latin typeface="Arial"/>
              </a:rPr>
              <a:t>Real-time and Embedded Systems</a:t>
            </a:r>
            <a:endParaRPr b="0" lang="en-US" sz="4000" spc="-1" strike="noStrike">
              <a:solidFill>
                <a:srgbClr val="fe9900"/>
              </a:solidFill>
              <a:latin typeface="Arial"/>
            </a:endParaRPr>
          </a:p>
        </p:txBody>
      </p:sp>
      <p:sp>
        <p:nvSpPr>
          <p:cNvPr id="11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1. Introduction and Vocabulary (Elective)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2. Real-Time Systems with Windows (Elective)</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3. Embedded Systems with Windows XP Embedded (Elective)</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3FE1A07-A6FD-4588-AA03-84297BC659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t OS10: Fault-tolerance</a:t>
            </a:r>
            <a:endParaRPr b="0" lang="en-US" sz="4000" spc="-1" strike="noStrike">
              <a:solidFill>
                <a:srgbClr val="fe9900"/>
              </a:solidFill>
              <a:latin typeface="Arial"/>
            </a:endParaRPr>
          </a:p>
        </p:txBody>
      </p:sp>
      <p:sp>
        <p:nvSpPr>
          <p:cNvPr id="11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Fault-tolerance (Elective) OS10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1. Fault-tolerance in Windows (Elective)</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2. Fault-tolerance quizzes and assignment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F63D3B1-250E-4953-A766-076A0DCF60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t OS11: Performance Evaluation</a:t>
            </a:r>
            <a:endParaRPr b="0" lang="en-US" sz="4000" spc="-1" strike="noStrike">
              <a:solidFill>
                <a:srgbClr val="fe9900"/>
              </a:solidFill>
              <a:latin typeface="Arial"/>
            </a:endParaRPr>
          </a:p>
        </p:txBody>
      </p:sp>
      <p:sp>
        <p:nvSpPr>
          <p:cNvPr id="11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 System Performance Evaluation and Troubleshooting (Elective) OS11</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1. System Performance</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2. Boot/Startup Troubleshooting</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3. Performance Evaluation labs, quizzes, and assignment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C6195E5-31BF-4CD2-AD26-457061EFAC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t 12: Scripting</a:t>
            </a:r>
            <a:endParaRPr b="0" lang="en-US" sz="4000" spc="-1" strike="noStrike">
              <a:solidFill>
                <a:srgbClr val="fe9900"/>
              </a:solidFill>
              <a:latin typeface="Arial"/>
            </a:endParaRPr>
          </a:p>
        </p:txBody>
      </p:sp>
      <p:sp>
        <p:nvSpPr>
          <p:cNvPr id="11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 Scripting (Elective) OS12</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1. Windows Management Instrumentation</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2. The Registry</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3. Scripting labs, quizzes and assignments</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345C81F-00BA-4C8F-B911-C5F8FEBC41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upplementary Unit A:</a:t>
            </a:r>
            <a:br>
              <a:rPr sz="4000"/>
            </a:br>
            <a:r>
              <a:rPr b="0" lang="en-US" sz="4000" spc="-1" strike="noStrike">
                <a:solidFill>
                  <a:srgbClr val="fe9900"/>
                </a:solidFill>
                <a:latin typeface="Arial"/>
              </a:rPr>
              <a:t>Windows Networking</a:t>
            </a:r>
            <a:endParaRPr b="0" lang="en-US" sz="4000" spc="-1" strike="noStrike">
              <a:solidFill>
                <a:srgbClr val="fe9900"/>
              </a:solidFill>
              <a:latin typeface="Arial"/>
            </a:endParaRPr>
          </a:p>
        </p:txBody>
      </p:sp>
      <p:sp>
        <p:nvSpPr>
          <p:cNvPr id="11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1. Networking Components in Windows OS (Supplementary/Advanced)</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2. Windows Socket Programming (Supplementary/Advanced)</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3. Microsoft-specific extensions to Sockets and other Networking APIs (Supplementary/Advanced) </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4. Networking labs, quizzes, and assignment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9CD19A0-D9DA-446F-807A-D71F47DED1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upplementary Units B:</a:t>
            </a:r>
            <a:br>
              <a:rPr sz="4000"/>
            </a:br>
            <a:r>
              <a:rPr b="0" lang="en-US" sz="4000" spc="-1" strike="noStrike">
                <a:solidFill>
                  <a:srgbClr val="fe9900"/>
                </a:solidFill>
                <a:latin typeface="Arial"/>
              </a:rPr>
              <a:t>Comparing the Linux and Windows Kernels</a:t>
            </a:r>
            <a:endParaRPr b="0" lang="en-US" sz="4000" spc="-1" strike="noStrike">
              <a:solidFill>
                <a:srgbClr val="fe9900"/>
              </a:solidFill>
              <a:latin typeface="Arial"/>
            </a:endParaRPr>
          </a:p>
        </p:txBody>
      </p:sp>
      <p:sp>
        <p:nvSpPr>
          <p:cNvPr id="12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 Comparing the Linux and Windows Kernels (Supplementary/Advanced)</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1. Linux and Windows Comparison (Supplementary/Advanced)</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2. Linux and Windows Comparison quizzes</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83A6C78-1516-449C-9E8A-A32DE8FD83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upplementary Units C:</a:t>
            </a:r>
            <a:br>
              <a:rPr sz="4000"/>
            </a:br>
            <a:r>
              <a:rPr b="0" lang="en-US" sz="4000" spc="-1" strike="noStrike">
                <a:solidFill>
                  <a:srgbClr val="fe9900"/>
                </a:solidFill>
                <a:latin typeface="Arial"/>
              </a:rPr>
              <a:t>Windows – Unix Interoperability</a:t>
            </a:r>
            <a:endParaRPr b="0" lang="en-US" sz="4000" spc="-1" strike="noStrike">
              <a:solidFill>
                <a:srgbClr val="fe9900"/>
              </a:solidFill>
              <a:latin typeface="Arial"/>
            </a:endParaRPr>
          </a:p>
        </p:txBody>
      </p:sp>
      <p:sp>
        <p:nvSpPr>
          <p:cNvPr id="12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 Windows – Unix Interoperability (Supplementary/Advanced)</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1.  File and Command Interoperability (Supplementary/Advanced)</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2. Programming (Supplementary/Advanced)</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3. Interoperability quizzes and assignments</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370E647-18E1-4A35-858D-E51027816F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Resource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829683A-8678-4B9D-896C-A9BE5B2BBB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uggested Reading</a:t>
            </a:r>
            <a:endParaRPr b="0" lang="en-US" sz="4000" spc="-1" strike="noStrike">
              <a:solidFill>
                <a:srgbClr val="fe9900"/>
              </a:solidFill>
              <a:latin typeface="Arial"/>
            </a:endParaRPr>
          </a:p>
        </p:txBody>
      </p:sp>
      <p:sp>
        <p:nvSpPr>
          <p:cNvPr id="125" name="PlaceHolder 2"/>
          <p:cNvSpPr>
            <a:spLocks noGrp="1"/>
          </p:cNvSpPr>
          <p:nvPr>
            <p:ph/>
          </p:nvPr>
        </p:nvSpPr>
        <p:spPr>
          <a:xfrm>
            <a:off x="457200" y="1142640"/>
            <a:ext cx="8074080" cy="472428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Microsoft Windows Internals, 4th Edition, Microsoft Press, 2004.</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book is the course’s direct companion - required reading).</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Silberschatz, Peter B. Galvin, Operating System Concepts, John Wiley &amp; Sons, 6th Ed., 2003;</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book gives a platform-neutral overview on operating system design and implementation – suggested reading).</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ffrey Richter, Programming Applications for Microsoft Windows, 4th Edition, Microsoft Press, September 1999.</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book provides a comprehensive discussion of the Windows API – suggested reading).</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8B23E92-956D-4056-AC3B-4AB3FDF49E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uggested Reading (contd.)</a:t>
            </a:r>
            <a:endParaRPr b="0" lang="en-US" sz="4000" spc="-1" strike="noStrike">
              <a:solidFill>
                <a:srgbClr val="fe9900"/>
              </a:solidFill>
              <a:latin typeface="Arial"/>
            </a:endParaRPr>
          </a:p>
        </p:txBody>
      </p:sp>
      <p:sp>
        <p:nvSpPr>
          <p:cNvPr id="127" name="PlaceHolder 2"/>
          <p:cNvSpPr>
            <a:spLocks noGrp="1"/>
          </p:cNvSpPr>
          <p:nvPr>
            <p:ph/>
          </p:nvPr>
        </p:nvSpPr>
        <p:spPr>
          <a:xfrm>
            <a:off x="457200" y="1295280"/>
            <a:ext cx="8074080" cy="510552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son M. Hart, Win32 System Programming: A Windows® 2000 Application Developer's Guide, 2nd Edition, Addison-Wesley, 2000.</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book discusses select Windows programming problems and addresses the problem of portable programming by comparing Windows and Unix approaches).</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drew S. Tanenbaum, Distributed Operating Systems, Prentice Hall, 1995.</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text accompanies the course’s advanced modules and offers students an explanation of the concepts of distributed operating systems).</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sysinternals.com</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ols used in labs and experiments)</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msdn.microsoft.com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ine resource for information on APIs required during work on assignment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D7D104D-90BC-46E7-B170-FA0BC76336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12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WRK)</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set of Windows kernel source code</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more information, see </a:t>
            </a:r>
            <a:r>
              <a:rPr b="0" lang="en-US" sz="2400" spc="-1" strike="noStrike" u="sng">
                <a:solidFill>
                  <a:srgbClr val="99cc66"/>
                </a:solidFill>
                <a:uFillTx/>
                <a:latin typeface="Arial"/>
                <a:hlinkClick r:id="rId4"/>
              </a:rPr>
              <a:t>http://www.microsoft.com/resources/sharedsource/Licensing/WindowsAcademic.mspx</a:t>
            </a:r>
            <a:r>
              <a:rPr b="0" lang="en-US" sz="2400" spc="-1" strike="noStrike">
                <a:solidFill>
                  <a:srgbClr val="ffffff"/>
                </a:solidFill>
                <a:latin typeface="Arial"/>
              </a:rPr>
              <a:t> </a:t>
            </a:r>
            <a:endParaRPr b="0" lang="en-US" sz="24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source code is available, the last slide in each Powerpoint refers to the relevant directories/fil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DE262E1-F26F-46C2-9718-EA944495CDDB}" type="slidenum">
              <a:t>2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sic Information</a:t>
            </a:r>
            <a:endParaRPr b="0" lang="en-US" sz="4000" spc="-1" strike="noStrike">
              <a:solidFill>
                <a:srgbClr val="fe9900"/>
              </a:solidFill>
              <a:latin typeface="Arial"/>
            </a:endParaRPr>
          </a:p>
        </p:txBody>
      </p:sp>
      <p:sp>
        <p:nvSpPr>
          <p:cNvPr id="91" name="PlaceHolder 2"/>
          <p:cNvSpPr>
            <a:spLocks noGrp="1"/>
          </p:cNvSpPr>
          <p:nvPr>
            <p:ph/>
          </p:nvPr>
        </p:nvSpPr>
        <p:spPr>
          <a:xfrm>
            <a:off x="457200" y="1295280"/>
            <a:ext cx="8229600" cy="49276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Operating Systems Internals is a pool of material and resources  that explains operating systems (OS) concepts based on the Microsoft Windows XP and Windows Server 2003 operating system family, structured following the ACM/IEEE Operating System Body of Knowledge (“BOK”) as defined in Computing Curriculum 2001 project by the Joint IEEE and ACM Task Force (“CC2001”).</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urriculum is based on the book Windows Internals, 4th edition (Microsoft Press, 2004) by Mark Russinovich and David Solomon. </a:t>
            </a: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xperiments, lab descriptions, quizzes, and assignments, which are an integral part of the course materials, have been tested over the last five years in context of an Operating Systems Architecture class taught by Andreas Polze at Humboldt University of Berlin and Hasso-Plattner-Institute at University Potsdam, Germany.</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0FED34A-001F-40B8-BB73-0EB491EB245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1.1.</a:t>
            </a:r>
            <a:endParaRPr b="0" lang="en-US" sz="4000" spc="-1" strike="noStrike">
              <a:solidFill>
                <a:srgbClr val="fe9900"/>
              </a:solidFill>
              <a:latin typeface="Arial"/>
            </a:endParaRPr>
          </a:p>
        </p:txBody>
      </p:sp>
      <p:sp>
        <p:nvSpPr>
          <p:cNvPr id="93"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M/IEEE Operating Systems Body of Knowledge - Core unit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M/IEEE Operating Systems Body of Knowledge - Elective unit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lementary unit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D298E39-B3F1-4D81-84C7-325E6BBD28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t OS1: </a:t>
            </a:r>
            <a:br>
              <a:rPr sz="4000"/>
            </a:br>
            <a:r>
              <a:rPr b="0" lang="en-US" sz="4000" spc="-1" strike="noStrike">
                <a:solidFill>
                  <a:srgbClr val="fe9900"/>
                </a:solidFill>
                <a:latin typeface="Arial"/>
              </a:rPr>
              <a:t>Overview of Operating Systems</a:t>
            </a:r>
            <a:endParaRPr b="0" lang="en-US" sz="4000" spc="-1" strike="noStrike">
              <a:solidFill>
                <a:srgbClr val="fe9900"/>
              </a:solidFill>
              <a:latin typeface="Arial"/>
            </a:endParaRPr>
          </a:p>
        </p:txBody>
      </p:sp>
      <p:sp>
        <p:nvSpPr>
          <p:cNvPr id="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 Windows Operating System Internals Course Overview  (Cor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 The Evolution of Operating Systems (Cor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 Windows Operating System Family – Concepts &amp; Tools (Core)</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87480" indent="0">
              <a:lnSpc>
                <a:spcPct val="90000"/>
              </a:lnSpc>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F89CF59-2B2C-4EAF-8D3B-B178387E73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t OS2: </a:t>
            </a:r>
            <a:br>
              <a:rPr sz="4000"/>
            </a:br>
            <a:r>
              <a:rPr b="0" lang="en-US" sz="4000" spc="-1" strike="noStrike">
                <a:solidFill>
                  <a:srgbClr val="fe9900"/>
                </a:solidFill>
                <a:latin typeface="Arial"/>
              </a:rPr>
              <a:t>Operating System Principles</a:t>
            </a:r>
            <a:endParaRPr b="0" lang="en-US" sz="4000" spc="-1" strike="noStrike">
              <a:solidFill>
                <a:srgbClr val="fe9900"/>
              </a:solidFill>
              <a:latin typeface="Arial"/>
            </a:endParaRPr>
          </a:p>
        </p:txBody>
      </p:sp>
      <p:sp>
        <p:nvSpPr>
          <p:cNvPr id="97" name="PlaceHolder 2"/>
          <p:cNvSpPr>
            <a:spLocks noGrp="1"/>
          </p:cNvSpPr>
          <p:nvPr>
            <p:ph/>
          </p:nvPr>
        </p:nvSpPr>
        <p:spPr>
          <a:xfrm>
            <a:off x="456840" y="1625400"/>
            <a:ext cx="8458200" cy="460188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 Structuring of the Windows Operating System (Cor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2. Windows Core System Mechanisms (Core)</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3. Windows on Windows - OS  Personalities (Core)</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 The Windows API – Naming Conventions, Types (Core)</a:t>
            </a:r>
            <a:endParaRPr b="0" lang="en-US" sz="24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5. OS Principles labs, quizzes, and assignmen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F53AAD7-5F49-4095-86D7-5AF4261A37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t OS3: Concurrency</a:t>
            </a:r>
            <a:endParaRPr b="0" lang="en-US" sz="4000" spc="-1" strike="noStrike">
              <a:solidFill>
                <a:srgbClr val="fe9900"/>
              </a:solidFill>
              <a:latin typeface="Arial"/>
            </a:endParaRPr>
          </a:p>
        </p:txBody>
      </p:sp>
      <p:sp>
        <p:nvSpPr>
          <p:cNvPr id="9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1. Concurrency, Critical Sections, Semaphores (Core) </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 Windows Trap Dispatching, Interrupts, Synchronization (Core)</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3. Advanced Windows Synchronization (Core/Advanced)</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4. Windows APIs for Synchronization and Inter-Process Communication (Core/Advanced)</a:t>
            </a:r>
            <a:endParaRPr b="0" lang="en-US" sz="24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5. Concurrency labs, quizzes, and assignmen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72E32C9-09A8-4977-A9F9-8A0943F1F6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t OS4: Scheduling and Dispatch</a:t>
            </a:r>
            <a:endParaRPr b="0" lang="en-US" sz="4000" spc="-1" strike="noStrike">
              <a:solidFill>
                <a:srgbClr val="fe9900"/>
              </a:solidFill>
              <a:latin typeface="Arial"/>
            </a:endParaRPr>
          </a:p>
        </p:txBody>
      </p:sp>
      <p:sp>
        <p:nvSpPr>
          <p:cNvPr id="10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1. The Concept of Processes and Threads (Cor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2. Windows Processes and Threads (Core)</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3. Windows Process and Thread Internals (Core/Advanced)</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4. Windows Thread Scheduling (Core) </a:t>
            </a:r>
            <a:endParaRPr b="0" lang="en-US" sz="24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5. Advanced Windows Thread Scheduling (Core/Advanced)</a:t>
            </a:r>
            <a:endParaRPr b="0" lang="en-US" sz="24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6. Scheduling and Dispatch labs, quizzes, and assignmen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D617C59-6D5F-4E82-8FCC-448AEFC14D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t OS5: Memory Management</a:t>
            </a:r>
            <a:endParaRPr b="0" lang="en-US" sz="4000" spc="-1" strike="noStrike">
              <a:solidFill>
                <a:srgbClr val="fe9900"/>
              </a:solidFill>
              <a:latin typeface="Arial"/>
            </a:endParaRPr>
          </a:p>
        </p:txBody>
      </p:sp>
      <p:sp>
        <p:nvSpPr>
          <p:cNvPr id="10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1. Memory Management for Multiprogramming (Cor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2. Windows Memory Management Fundamentals (Core)</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3. Virtual Address Translation (Core)</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4. Physical Memory Management (Core/Advanced)</a:t>
            </a:r>
            <a:endParaRPr b="0" lang="en-US" sz="24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5. Memory Management labs, quizzes, and assignmen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EE246BA-EB5F-4AF2-A2AE-9B3A2C61D2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4T12:16:59Z</dcterms:created>
  <dc:creator>David A. Solomon, Mark E. Russinovich, and Andreas Polze</dc:creator>
  <dc:description/>
  <cp:keywords/>
  <dc:language>en-US</dc:language>
  <cp:lastModifiedBy>David Solomon</cp:lastModifiedBy>
  <dcterms:modified xsi:type="dcterms:W3CDTF">2006-02-08T00:02:18Z</dcterms:modified>
  <cp:revision>27</cp:revision>
  <dc:subject>Windows Operating Systems Internals Course</dc:subject>
  <dc:title>Unit OS1: Windows Operating Systems Internals - Course Overview</dc:title>
</cp:coreProperties>
</file>